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565-8E79-404F-8ADB-5295BE18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B2F-EF22-4A09-8828-85CBC0A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ABC-DE19-4E4C-AD61-A9C61ECA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5A1-E74D-4568-AE56-59FACC22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1922-EDFE-4011-BF7B-EDD826D2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5FB-F853-4383-9429-32735728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C73-DDF5-4786-9BD2-4C3348ED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85E-1662-47DF-9EDA-9C9B396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C65-EB7A-4F96-820E-73CA304E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9E4B-5879-4566-9AF4-22DFD541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5B0-07AD-4E8E-9A6B-7BD0AA3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499-EE0D-4C91-8DB1-198B9E53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292-AC7A-4019-8E8F-3DA837C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A53D-6BC3-4F2D-B44B-37C26B4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EB90-F34C-455C-9450-2D835B30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5342-CC42-44F7-A624-6CD2C2E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B75-9139-45B8-88E2-3F8B2EF2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63E-8ABB-4C56-924A-5FEE1C9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0BD-2DB2-4C49-A0F5-FDD30A8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263-55D8-4FDB-9C7C-83F646D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8CB-62C0-44D8-84BF-6E6BFE5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4BF-22DA-4D67-8B79-5F7035A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342-A2EB-4011-BA45-342973A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647-C3F2-4D0A-BF07-3EA9AA2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75B1-3B6A-4558-A042-9E944BC0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E09-DAF0-4E0B-8A0B-B228B8657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extoscolaborativos.wikispaces.com/Wikis+en+Lengua+y+Literatura" TargetMode="External"/><Relationship Id="rId2" Type="http://schemas.openxmlformats.org/officeDocument/2006/relationships/hyperlink" Target="http://textoscolaborativos.wikispaces.com/Wikis+en+Lengua+y+Literatura" TargetMode="External"/><Relationship Id="rId3" Type="http://schemas.openxmlformats.org/officeDocument/2006/relationships/hyperlink" Target="http://textoscolaborativos.wikispaces.com/Wikis+en+Lengua+y+Literatura" TargetMode="External"/><Relationship Id="rId4" Type="http://schemas.openxmlformats.org/officeDocument/2006/relationships/hyperlink" Target="http://textoscolaborativos.wikispaces.com/Wikis+en+Lengua+y+Literatura" TargetMode="External"/><Relationship Id="rId5" Type="http://schemas.openxmlformats.org/officeDocument/2006/relationships/hyperlink" Target="http://textoscolaborativos.wikispaces.com/Wikis+en+Lengua+y+Literatura" TargetMode="External"/><Relationship Id="rId6" Type="http://schemas.openxmlformats.org/officeDocument/2006/relationships/hyperlink" Target="http://textoscolaborativos.wikispaces.com/Wikis+en+Lengua+y+Literatura" TargetMode="External"/><Relationship Id="rId7" Type="http://schemas.openxmlformats.org/officeDocument/2006/relationships/hyperlink" Target="http://textoscolaborativos.wikispaces.com/Wikis+en+Lengua+y+Literatura" TargetMode="External"/><Relationship Id="rId8" Type="http://schemas.openxmlformats.org/officeDocument/2006/relationships/hyperlink" Target="http://textoscolaborativos.wikispaces.com/Wikis+en+Lengua+y+Literatura" TargetMode="External"/><Relationship Id="rId9" Type="http://schemas.openxmlformats.org/officeDocument/2006/relationships/hyperlink" Target="http://textoscolaborativos.wikispaces.com/Wikis+en+Lengua+y+Literatura" TargetMode="External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ologiapoetica.wetpaint.com/?t=an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nesunminuto.wetpaint.com/?t=anon" TargetMode="External"/><Relationship Id="rId2" Type="http://schemas.openxmlformats.org/officeDocument/2006/relationships/hyperlink" Target="http://tienesunminuto.wetpaint.com/?t=anon" TargetMode="External"/><Relationship Id="rId3" Type="http://schemas.openxmlformats.org/officeDocument/2006/relationships/hyperlink" Target="http://tienesunminuto.wetpaint.com/?t=anon" TargetMode="External"/><Relationship Id="rId4" Type="http://schemas.openxmlformats.org/officeDocument/2006/relationships/hyperlink" Target="http://tienesunminuto.wetpaint.com/?t=anon" TargetMode="External"/><Relationship Id="rId5" Type="http://schemas.openxmlformats.org/officeDocument/2006/relationships/hyperlink" Target="http://tienesunminuto.wetpaint.com/?t=anon" TargetMode="External"/><Relationship Id="rId6" Type="http://schemas.openxmlformats.org/officeDocument/2006/relationships/hyperlink" Target="http://tienesunminuto.wetpaint.com/?t=anon" TargetMode="External"/><Relationship Id="rId7" Type="http://schemas.openxmlformats.org/officeDocument/2006/relationships/hyperlink" Target="http://tienesunminuto.wetpaint.com/?t=anon" TargetMode="External"/><Relationship Id="rId8" Type="http://schemas.openxmlformats.org/officeDocument/2006/relationships/hyperlink" Target="http://tienesunminuto.wetpaint.com/?t=anon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523880"/>
            <a:ext cx="812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textoscolaborativo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wikispace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Wikis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9"/>
              </a:rPr>
              <a:t>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371600"/>
            <a:ext cx="5105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01880" y="1371600"/>
            <a:ext cx="5046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tienesunminuto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wetpaint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7"/>
              </a:rPr>
              <a:t>/?t=</a:t>
            </a:r>
            <a:r>
              <a:rPr b="0" lang="es-ES" sz="1800" spc="-1" strike="noStrike" u="sng">
                <a:solidFill>
                  <a:srgbClr val="99ccff"/>
                </a:solidFill>
                <a:uFillTx/>
                <a:latin typeface="Tahoma"/>
                <a:hlinkClick r:id="rId8"/>
              </a:rPr>
              <a:t>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lataforma de trabajo es la propia página web (no es necesario tener instalado un software cliente en 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Del.icio.u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, buscar,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 social horizontal y rico en fuentes de informació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rientado al </a:t>
            </a:r>
            <a:r>
              <a:rPr b="0" i="1" lang="es-ES" sz="1400" spc="-1" strike="noStrike">
                <a:solidFill>
                  <a:srgbClr val="3366cc"/>
                </a:solidFill>
                <a:latin typeface="Arial"/>
              </a:rPr>
              <a:t>trabajo autónomo y colaborativo, crítico y creativo, la expresión personal, investigar y compartir recursos, crear conocimiento y aprende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cilita u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rendizaje más autónomo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ayor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ticipación en las actividad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ales, hay má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interé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motiv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 y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y gestión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es de centros y profesor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8-11-20T12:18:48Z</dcterms:modified>
  <cp:revision>6</cp:revision>
  <dc:subject/>
  <dc:title>Presentación de PowerPoint</dc:title>
</cp:coreProperties>
</file>